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2B5-529D-40C6-A454-9B6C6978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0A3-F6F9-47A1-8D94-90B65CD4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DB1-0691-43DF-BB27-1A1C9B89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ED9-D7E4-4C35-9735-DE4EAEE2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D34-0F1D-43FD-B462-22991FEF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979-927B-48E6-9106-DA07899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6F9-7280-4F2D-BE26-309CBE49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2FF-108B-4448-B91B-C0F1995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6B2-909C-4CF2-B616-1284F78F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2D8-457B-44E6-BD2C-D39AE100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C22-895C-4F3F-802A-AF3AAF8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E90-38C2-492A-9643-49F2C0E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6C88-1677-4FA7-94DB-45868DB18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cropole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phael_School_of_Athen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eece_topo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exa Muno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- a Greek City-st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upload.wikimedia.org/wikipedia/commons/thumb/5/53/Acropole1.jpg/300px-Acropole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- a study of wisdom and the right way to liv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commons/thumb/c/c3/Raphael_School_of_Athens.jpg/300px-Raphael_School_of_Ath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- an area of land nearly surrounded by wa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upload.wikimedia.org/wikipedia/commons/thumb/b/bc/Greece_topo.jpg/220px-Greece_top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- the war between Athens and Spar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- the kind of government that is run by a small group of peo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- a sheltered place along a coas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fineartpaintingtips.com/wp-content/uploads/2010/10/ancient-greek-ships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historylink101.net/greek_images/acropolis-from-below.jpg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upload.wikimedia.org/wikipedia/commons/thumb/5/56/AncientAgoraofAthensColour.jpg/300px-AncientAgoraofAthensColour.jp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y – a lawmaking place where people voted on issues that helped their ci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thehistoryblog.com/wp-content/uploads/2010/04/remains-of-greek-diy-building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tizen- a person who has certain rights and responsibilities to his or her count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historyoftheancientworld.com/wp-content/uploads/2009/12/Athens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- a group of people who lived apart from Greece but kept economies ties with i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mage.shutterstock.com/display_pic_with_logo/339454/339454,1283459365,1/stock-photo-ancient-greek-colony-chersonesos-ruins-in-crimea-ukraine-on-the-banck-of-black-sea-60245548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- a form of government where people vote to make deci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gsl.gsu.edu.tr/democracy/1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- they hear evidence and make decisions in a court of la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ows.edb.utexas.edu/sites/default/files/users/%0D%0ARhonda%20Nelson/kleroterion-400w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- government headed by one ru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2.gstatic.com/images?q=tbn:ANd9GcRH7pQu1Y5YZaeTjOSxZykqn5s5N9I78RrB2HCOtQmBI4HFYXP3E5xF2Ig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15:39:40Z</dcterms:modified>
  <cp:revision>91</cp:revision>
  <dc:subject/>
  <dc:title>Ancient Greece</dc:title>
</cp:coreProperties>
</file>